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977-8347-438B-BE7E-E568AB33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5E2-B020-479F-BEB4-2D7766E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602-837E-4CEA-8F4C-2DF185F6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375-45C1-4AA8-986E-6067278D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6FA5-C298-4426-B739-F544F26D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8213-1AD0-40CE-8D5B-E27CAF2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3946-764F-4520-84E4-C5C9A69E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6BE-5118-4FA4-940B-69300F28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D25-498D-4A88-BD19-222028D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0DF2-4B5B-432F-8579-3F87CCF8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034C-F1A4-48CD-A4BA-6825D25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7E3-27BD-4173-B9B0-71BF461B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B001-0D2D-4A80-A1E5-3B8EF11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8AF4-6861-4873-8FE1-54CCBD5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B57E-CF6E-41B9-9CAE-86F13925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777B-C231-458A-9B03-F23F87FB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48A7-BF35-4889-81A3-626CEF60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48F-F9A2-4E55-BA1E-F154DA24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B73-0054-465D-B4BE-AF80EBF3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4B6-34A9-49EE-A2A5-C6F036B5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087-ED2F-46A1-8093-50EA05CA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85A-0AB7-415F-9F2B-5CF63DF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86B-53E9-4F79-8795-CF25248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9AF-B811-471A-BF9C-F04646D7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1.pct"/><Relationship Id="rId6" Type="http://schemas.openxmlformats.org/officeDocument/2006/relationships/image" Target="../media/image1.pct"/><Relationship Id="rId7" Type="http://schemas.openxmlformats.org/officeDocument/2006/relationships/image" Target="../media/image1.pct"/><Relationship Id="rId8" Type="http://schemas.openxmlformats.org/officeDocument/2006/relationships/image" Target="../media/image1.pct"/><Relationship Id="rId9" Type="http://schemas.openxmlformats.org/officeDocument/2006/relationships/image" Target="../media/image1.pct"/><Relationship Id="rId10" Type="http://schemas.openxmlformats.org/officeDocument/2006/relationships/image" Target="../media/image1.pct"/><Relationship Id="rId11" Type="http://schemas.openxmlformats.org/officeDocument/2006/relationships/image" Target="../media/image1.pct"/><Relationship Id="rId12" Type="http://schemas.openxmlformats.org/officeDocument/2006/relationships/image" Target="../media/image1.pct"/><Relationship Id="rId13" Type="http://schemas.openxmlformats.org/officeDocument/2006/relationships/image" Target="../media/image1.pct"/><Relationship Id="rId14" Type="http://schemas.openxmlformats.org/officeDocument/2006/relationships/image" Target="../media/image1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1.pct"/><Relationship Id="rId18" Type="http://schemas.openxmlformats.org/officeDocument/2006/relationships/image" Target="../media/image1.pct"/><Relationship Id="rId19" Type="http://schemas.openxmlformats.org/officeDocument/2006/relationships/image" Target="../media/image1.pct"/><Relationship Id="rId20" Type="http://schemas.openxmlformats.org/officeDocument/2006/relationships/image" Target="../media/image1.pct"/><Relationship Id="rId21" Type="http://schemas.openxmlformats.org/officeDocument/2006/relationships/image" Target="../media/image1.pct"/><Relationship Id="rId22" Type="http://schemas.openxmlformats.org/officeDocument/2006/relationships/image" Target="../media/image1.pct"/><Relationship Id="rId23" Type="http://schemas.openxmlformats.org/officeDocument/2006/relationships/image" Target="../media/image1.pct"/><Relationship Id="rId24" Type="http://schemas.openxmlformats.org/officeDocument/2006/relationships/image" Target="../media/image1.pct"/><Relationship Id="rId25" Type="http://schemas.openxmlformats.org/officeDocument/2006/relationships/image" Target="../media/image1.pct"/><Relationship Id="rId26" Type="http://schemas.openxmlformats.org/officeDocument/2006/relationships/image" Target="../media/image1.pct"/><Relationship Id="rId27" Type="http://schemas.openxmlformats.org/officeDocument/2006/relationships/image" Target="../media/image1.pct"/><Relationship Id="rId28" Type="http://schemas.openxmlformats.org/officeDocument/2006/relationships/image" Target="../media/image1.pct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549-7FB5-4145-BA6B-1CBE8BC40D1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f1311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f1311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f1311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C86B-CAF7-42EF-B7DF-524BC717AFC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All About Me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160" y="2971800"/>
            <a:ext cx="3616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32000" y="1598760"/>
            <a:ext cx="3617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Likes &amp; Dislike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Lik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slik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Some of My Friends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3160" y="1598760"/>
            <a:ext cx="3616200" cy="2171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032000" y="1598760"/>
            <a:ext cx="3617640" cy="2171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32000" y="3922200"/>
            <a:ext cx="3617640" cy="2173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63160" y="3922200"/>
            <a:ext cx="361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49:14Z</dcterms:created>
  <dc:creator>Lupin Hill</dc:creator>
  <dc:description/>
  <dc:language>en-US</dc:language>
  <cp:lastModifiedBy>Lupin Hill</cp:lastModifiedBy>
  <dcterms:modified xsi:type="dcterms:W3CDTF">2010-11-10T16:49:29Z</dcterms:modified>
  <cp:revision>1</cp:revision>
  <dc:subject/>
  <dc:title>All About Me</dc:title>
</cp:coreProperties>
</file>